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BA0E-A679-4994-89A7-18E7375CA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AE2B-6AC7-47A9-B8E4-7A2C82DDC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8AC5-3A80-4C4E-BF25-0B113BE21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2518-BC9E-46DE-9BC1-5E8E192D6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5900-464D-41A8-84A0-0D3272FCB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86E7-C104-4B34-82B6-1C6D721E7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512B-8355-4B15-B9B8-60D6D7196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967B-B791-4246-BD66-5A5D4E7E8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C564-EE42-4208-A5B2-4F3DC5173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8A0C-2DA9-4B65-9471-C4D7E518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15A7-CBC4-4AE3-9B5B-06B6EB35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17B2-4E5E-494A-AF0D-0847A773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64FFD-B7B8-4DDB-85B7-439ECFFA9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PO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ZIŢII COMP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41911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 de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ogică şi argumentar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clasa a I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Elena Lupşa, Victor Bratu, Maria Dorina Stoic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533520" y="380880"/>
            <a:ext cx="4876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ba de evaluare a competenţelor digitale – document de lucr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124080" y="4724280"/>
            <a:ext cx="3934080" cy="131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esiunea iunie - iuli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8"/>
          <p:cNvSpPr/>
          <p:nvPr/>
        </p:nvSpPr>
        <p:spPr>
          <a:xfrm>
            <a:off x="533520" y="380880"/>
            <a:ext cx="4876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ba de evaluare a competenţelor digitale – document de lucr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533520" y="914400"/>
            <a:ext cx="449568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mba  naturală conţine expresii lingvistice care nu pot fi formalizat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[...], în cadrul unei logici a termenilor şi prin intermediul propoziţiilor categorice. O expresie propoziţională precum: - Dacă este prea frig, nu voi merge la plimbare - nu poate fi abordată ca o propoziţie categorică, în acest sens fiind creată o altă logică numită fie „logică propoziţională”, fie „logica propoziţiilor compuse”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umele de „propoziţie compusă”, provine de la faptul că în structura unei propoziţii compuse se pot pune în evidenţă cel puţin o propoziţie simplă şi cel puţin o constantă logică. [.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opoziţiile compuse se obţin aplicând anumite operaţii logice la propoziţiile simple, iar mai precis este vorba de a aplica aceste operaţii la valoarea de adevăr a propoziţiilor simple.  De aceea, propoziţiile compuse sunt tratate ca funcţii de adevăr, respectiv valoarea de adevăr a unei propoziţii compuse depinde de valoarea de adevăr a propoziţiilor simple. [...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limbile naturale, mecanismul negării este neuniform, respectiv modul de construire a negaţiei unei propoziţii este în funcţie de forma logico-lingvistică pe care propoziţia o are dej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tfel, propoziţia negativă „Nu p” este echivalentă, în esenţă, cu „Nu este adevărat că p”, dar, în anumite contexte, diferenţa dintre cele două moduri de exprimare este evidentă. [..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hiar dacă din punct de vedere gramatical se spune despre conjuncţie că leagă părţi de propoziţie, din punct de vedere logic este vorba de legarea a două propoziţii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 toate acestea, conjuncţia gramaticală „şi” nu îndeplineşte întotdeauna rolul unei conjuncţii logice. [..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2" descr="comp_i"/>
          <p:cNvPicPr/>
          <p:nvPr/>
        </p:nvPicPr>
        <p:blipFill>
          <a:blip r:embed="rId1"/>
          <a:stretch/>
        </p:blipFill>
        <p:spPr>
          <a:xfrm>
            <a:off x="5791320" y="1981080"/>
            <a:ext cx="2676240" cy="26766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5"/>
          <p:cNvSpPr/>
          <p:nvPr/>
        </p:nvSpPr>
        <p:spPr>
          <a:xfrm>
            <a:off x="533520" y="1295280"/>
            <a:ext cx="761976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oprietăţile principalilor operatori propoziţional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egaţ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incipiul terţului exclu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incipiul noncontradi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egea dublei negaţi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juncţ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dempotenţa conjun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tragerea conjun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utativitatea conjun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ociativitatea conjuncţie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licaţ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nzitivitatea implica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trapoziţia implica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stributivitatea implicaţiei faţă de conjuncţi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stributivitatea implicaţiei faţă de disjuncţi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s16</cp:lastModifiedBy>
  <dcterms:modified xsi:type="dcterms:W3CDTF">2012-06-18T11:05:18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